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DC9-68B2-43BC-A186-1DC2FC9F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195-82D0-446E-8121-52DB15F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071-BF34-4070-B732-8484D98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555-E968-4C18-A86E-F8AD4068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5D0-9A4C-4193-9E93-51BF262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DCA-347D-4AB6-8DC7-182DF7E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7C0-FC22-460C-B507-01E1B80A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9F6-EB9C-4778-8F27-625BAFF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387-8BA9-49DC-956B-DD02950A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920-1D4A-4C79-9178-AF2C473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94D-6A92-4B81-BE6D-A92DF22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231-6E5B-45F3-B559-09D23F6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929-1AE9-4DAF-9D8C-4C64D3B0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cs4learning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4learning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632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ics4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406440"/>
            <a:ext cx="42670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ics4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4114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22:44Z</dcterms:created>
  <dc:creator>kennedyp</dc:creator>
  <dc:description/>
  <dc:language>en-US</dc:language>
  <cp:lastModifiedBy>kennedyp</cp:lastModifiedBy>
  <dcterms:modified xsi:type="dcterms:W3CDTF">2010-12-01T14:47:28Z</dcterms:modified>
  <cp:revision>2</cp:revision>
  <dc:subject/>
  <dc:title>Slide 1</dc:title>
</cp:coreProperties>
</file>